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2E3F-81FB-42C0-ABDD-FEDB77EA3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934B-0CA6-4947-99E3-EA527402C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8406-017B-49C3-9497-EA6050A41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A8DB-B722-4CCC-A489-6D5E75B8B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ED03-B643-432B-B02E-06E6D68FD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1E0A-78BF-4FDA-A7EE-6D27325D3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1859-0403-43C7-A8C2-75606E3B1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1816-5702-45CA-AB52-0E59AFB3D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455A-D96A-4EBA-A4F6-343BF776A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A426-4B30-4949-884A-07A92A711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D037-47B4-4F18-ADF1-D70551C36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E074-06AE-4FD3-B995-14CEE3723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EE96-891F-47B1-834D-B2D5DF14D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206E-08C9-454D-ADB2-1CDCF6BC3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CD53-F834-48E4-9D09-BCCB1628F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FD73-4016-4327-8EDB-ECAABE3C5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B3B2-1FE8-4757-A80B-727D77B68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6571-2483-4BAB-86BF-29B3B5F30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423E-5AB7-4B1A-99A9-3759E225F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DA59-FDD0-4ECE-93AD-0574297E0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3201-3E5A-4360-9F26-C401C3093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2074-8B55-4905-A1B5-F5624369F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39555-BF2A-4EB4-B4DD-217166D99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DD12D-E9CD-4896-9EC6-84F14F97E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90811-680D-41DE-8531-3DE424A0C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E19DB-3CD5-47CE-BC5B-447E81E86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85C77-1216-46A8-868A-BB484FEB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06117-9D29-4361-95F8-36F380D1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A15CA-3FE4-4113-A459-0FC3A2DF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5D036-84F8-4253-96AB-2E54E38D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E279F-C0EE-450B-8EF1-F6353940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8CEBC-3CCA-4988-9210-52716263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578F1-5742-4ED5-A92F-19948E6C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4D060-4965-4C2B-BB4D-C3D57220D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A30BA-4185-4FB1-B221-8D4B1272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750F9-5223-4D29-8073-1FADC5A5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6E0A0-EEF3-4AB9-AF8E-4D11A268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A5727-0092-44F9-908B-10078B22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F37A8-1130-4B08-AE1C-6DC33551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249F1-0836-4336-AFB1-4E5BC9AC8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98A92-C8E3-49D5-9D61-060E9D9710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B12EA-FD78-474A-A4F3-3703C0B2E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C5D6F-B175-4047-86AB-DF51244F2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0BB69-3E4A-494B-9693-1A0A8E4C9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29ACC-98AD-4DFF-B219-18FBD8EDA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27815-4521-4E96-A074-8CCFC5A92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BDD8-DACC-4BED-A952-42F5A3F97F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4E82-3561-4DC6-B955-03870F9B01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7FCB-0400-4357-AA8F-95C0430BF7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“Multi Règles”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 “multi règles “ (ou règles multiples) développé par le Dr. James O. Westgard, basé sur des concepts statistiq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binaison de critères de décision ou règles pour évaluer si un système est sous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 quand au moins 2 niveaux de contrôles sont passés avec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 peut pas être utilisé si un seul niveau de contrôle est utilis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9" descr="westgard_lecturing"/>
          <p:cNvPicPr/>
          <p:nvPr/>
        </p:nvPicPr>
        <p:blipFill>
          <a:blip r:embed="rId1"/>
          <a:stretch/>
        </p:blipFill>
        <p:spPr>
          <a:xfrm>
            <a:off x="4114800" y="4267080"/>
            <a:ext cx="3657600" cy="2368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0D42-3619-40BA-99C5-CE022FEC70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44E9-FB98-405B-9EBA-3435D39C2F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pons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1, 22, 24, 26, 27, 30, 31, 33, 34, 36-44 – sous contrô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3, 28, 29 –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25 -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2 – 2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5 - 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5FF3-4E27-4B39-B5D4-B7F9525400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itre du système muti règles de Westgard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2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R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4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0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886200" y="18288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 quand 2 niveaux de contrôle sont analysés par sér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FC7F-40AC-4931-98B9-0CB68DD3DC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1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ègle d’avertissement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– ne cause pas le rejet du 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deux résultats du contrôle est en dehors de ±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erte les techniciens sur des problèmes potent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alors évaluer la Règle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161A-862A-4419-816F-EC29E63D7C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2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valeurs consécutives du contrôle pour le même niveau sont en dehors de ±2S dans la même direction, 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contrôles dans la même série excèdent ±2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ultats ne peuvent pas être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 une 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7EEE-A545-4801-98B8-3993864DF2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Règ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contrôle est inférieur à –2SD et l’autre est supérieur à +2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valle entre les deux résultats sera par conséquent supérieur à 4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erreur </a:t>
            </a:r>
            <a:r>
              <a:rPr b="0" lang="fr-FR" sz="3200" spc="-1" strike="noStrike">
                <a:solidFill>
                  <a:srgbClr val="ff0000"/>
                </a:solidFill>
                <a:latin typeface="Verdana"/>
              </a:rPr>
              <a:t>aléatoir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s’est produite, le test doit être reje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AE0F-D97A-478E-91E0-FEF89AAE09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4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l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atre résultats consécutifs de CQ pour un niveau de contrôle sont en dehors de ±1S, 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des résultats consécutifs en dehors de ±1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25B9-B6FB-4543-A92D-8EDE3846EE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10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d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10 résultats consécutifs pour un niveau de contrôle sont du même côté de la moyenne, o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cinq résultats consécutifs du même côté d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6622-BF91-404C-8A9A-D74BE44BD7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C Multi Règles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7CC2-E4E9-4CFA-979E-8FEFC37691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99"/>
                </a:solidFill>
                <a:latin typeface="Verdana"/>
              </a:rPr>
              <a:t>Activité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Verdana"/>
              </a:rPr>
              <a:t>En utilisant le système multi règles de Westgard, décrivez les valeurs de contrôles quotidiennes de la diapositive suivante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dolmazonv</cp:lastModifiedBy>
  <dcterms:modified xsi:type="dcterms:W3CDTF">2010-04-08T14:13:34Z</dcterms:modified>
  <cp:revision>12</cp:revision>
  <dc:subject/>
  <dc:title>Westgard Multirule System</dc:title>
</cp:coreProperties>
</file>